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C11FB-414C-42AB-9DFC-212BB931E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ECC24-E04D-4311-B7C6-08D469148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98D86-B5C4-47F9-95BD-A4A3BF73D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D0F79-6857-4B9F-B894-B3F729A62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CC493-C5F3-4E22-9425-0B2FA138D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6BBFD-99F6-4F05-9219-CC4FEB510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33D8B-3B9E-4415-99E3-09DE38B64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846BB-782C-46EB-B3D0-C70F84E67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B00F3-D6C0-4925-9195-E0A88651D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9E317-9791-432D-B5F0-1224351B4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0B8C9-2FD6-4FB2-A703-097D88536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4D3D8-A92B-472F-993F-421A433F2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5130D-688E-434D-8442-467704A92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3A41C-F7DA-48D0-9D44-03EC95B14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B5D3F-628A-4EFF-B617-6C12324BE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13E4C-EFF3-4EF9-ADB1-577377296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9796C-E3EF-4C50-9F77-3A80534FC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25D90-C40B-4E83-A175-BBC4C3143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9FBB4-A438-446D-B6A7-9FE35E586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3B95B-A9E8-44EB-B3B9-89A9EF6A1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BC181-E43B-4E1B-94FE-50F731699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4DFA8-2EA7-4755-94F4-D627217A9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1B7F1-7AFF-4EFB-AF1F-1947C782F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FBB7D-E8AB-4C40-B6C7-45D01506D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FD990-1247-4ED3-974E-94CFFC588ED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D8AA2-F22E-40AD-A089-9BF05CFA6BF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Opera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s of AS_Path and Next_Ho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_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ables routing poli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 a particular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ua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umber of AS cross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_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 few routers implement BG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ponsible for informing outside routers of routes to other networks in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ification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head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entication and synt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option not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acceptable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validity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ld time exp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is cl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close a connection when there is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Routing Information Exchan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AS, router builds topology picture using I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issues Update message to other routers outside AS using B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se routers exchange info with other routers in othe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then decide best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GP of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ced Routing Information Protocol (R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State 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router keeps list of state of local links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s update state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traffic as messages are small and not sent oft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23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computed on least cost based on user cost 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 stored as directed grap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tices 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ph 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two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router to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mple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801"/>
          <a:stretch/>
        </p:blipFill>
        <p:spPr>
          <a:xfrm>
            <a:off x="3414600" y="0"/>
            <a:ext cx="5729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ph of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3445" t="0" r="2645" b="8801"/>
          <a:stretch/>
        </p:blipFill>
        <p:spPr>
          <a:xfrm>
            <a:off x="3611520" y="0"/>
            <a:ext cx="5532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jkstra’s algorithm (Appendix 10A) used to find least cost path to all othe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op used in rout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s Services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traffic demands require variety of quality of servi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hone, multimedia,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functionality required in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means of requesting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63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pe with wide changes in delay and/o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TP sensitive to through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-Mail  in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Management sensitive to delay in times of heavy conges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b 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easily adapt to vari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out topology and delays in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make routing decisions based on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Inelastic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preferential treatment for certain types o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elastic traffic to be supported a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Approa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l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dis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each packet with a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poli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25828"/>
          <a:stretch/>
        </p:blipFill>
        <p:spPr>
          <a:xfrm>
            <a:off x="457200" y="1371600"/>
            <a:ext cx="8077320" cy="41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Traffic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eplenishment rat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ally sustainable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cket siz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unt that data rate can exceed R for shor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time perio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mount of data sent can not excee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T + 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0730"/>
          <a:stretch/>
        </p:blipFill>
        <p:spPr>
          <a:xfrm>
            <a:off x="1523880" y="1339920"/>
            <a:ext cx="594360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queuing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play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l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es behavior to best efforts on unload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fic 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high delivery su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ing Discip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ally FI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al treatment for high priority flow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packet can hold up smaller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edy connection can crowd out less greedy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 queu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maintained at each output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placed in queue for its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nd robin servi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kip empty que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have weighted fair queu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FO and Fair Que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32859"/>
          <a:stretch/>
        </p:blipFill>
        <p:spPr>
          <a:xfrm>
            <a:off x="457200" y="2125800"/>
            <a:ext cx="815328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Reservation: RSV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pplications can reserve resources in routers to meet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outer can not meet request, application infor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 is more dem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re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members of group may not require delivery from particular source over give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election of one from a number of “channels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group members may only be able to handle a portion of th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ft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state info in router that expires unless refres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s must periodically renew requests durin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ReSerVation Protocol (RSV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20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nomous Systems (AS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of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routers and networks managed by signle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nnec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at least one route between any pair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Go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for receivers to make 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multicast group membersh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resource requirements such that aggregate resources reflect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able receivers to select one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rotocol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nd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d 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soft state in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different reservation sty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arent operation through non-RSVP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Pv4 and IP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low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low identified by its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descript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ervation request issued by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de up of flowspec and filtersp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spec gives required Q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terspec defines set of packets for which reservation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eatment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6681"/>
          <a:stretch/>
        </p:blipFill>
        <p:spPr>
          <a:xfrm>
            <a:off x="457200" y="1795320"/>
            <a:ext cx="815328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32227"/>
          <a:stretch/>
        </p:blipFill>
        <p:spPr>
          <a:xfrm>
            <a:off x="380880" y="1714680"/>
            <a:ext cx="8305920" cy="29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te at multicast recei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e upstream through distribution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e soft states within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ch sending host enabling it to set up traffic control for first h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upstream routing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From Host Perspecti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joins multicast group (IG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tential sender issues Pa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message identifying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reverse path info and may start sending Resv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 messages propagate through internet and is delivered to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tarts transmitt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tarts receiv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ted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simple, easy to implement, low overhead tool to support range of network services differentiated on basis of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Packets labeled for differing QoS using existing IPv4 Type of Service or IPv6 Traffic cal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level agreement established between provider and customer prior to use of 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t in aggreg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scaling to larger networks and lo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lemented by queuing and forwarding based on DS oct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state info on packet flows store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d within DS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guous portion of internet over which consistent set of DS policies are adminis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nder control of on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by service level agreements (SL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ed service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cted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 prob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t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raints on ingress and egress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ro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ken bucket parame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position of traffic in excess of profi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ior Router Protocol (IR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sses routing information between routers within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ore than one AS i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s and tables may differ between different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need some info about networks outside thei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exterior router protocol (ER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RP needs detailed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P supports summary information on reach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A - low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B - low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C - 90% of traffic &lt; 50ms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D - 95% in profile traffic deliv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E - allotted twice bandwidth of level 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with drop precedence X higher probability of delivery than that of 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Code Po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ftmost 6 bit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pools of code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x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 as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0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but may be allocated for standards in fu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Precedence Fied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Domai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3367"/>
          <a:stretch/>
        </p:blipFill>
        <p:spPr>
          <a:xfrm>
            <a:off x="533520" y="1592280"/>
            <a:ext cx="80010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Configuration and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domain, interpretation of DS code points is unifo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in domain are boundary nodes or interi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ditioning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rk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Traffic Condition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35138"/>
          <a:stretch/>
        </p:blipFill>
        <p:spPr>
          <a:xfrm>
            <a:off x="380880" y="2362320"/>
            <a:ext cx="807732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 identified 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Internetworking with TCP/IP volume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of IRP and ER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8101"/>
          <a:stretch/>
        </p:blipFill>
        <p:spPr>
          <a:xfrm>
            <a:off x="1066680" y="1447920"/>
            <a:ext cx="658188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order Gateway Protocol (BG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se with TCP/IP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ferred EGP of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sent over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acquis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6622"/>
          <a:stretch/>
        </p:blipFill>
        <p:spPr>
          <a:xfrm>
            <a:off x="4400640" y="0"/>
            <a:ext cx="4743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Proced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pen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roposed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lects minimum of its hold time and that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time between Keep alive and/or update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tell other routers that this router is still 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 about single routes through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routes being withdra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ath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rigin (IGP or EG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_Path (list of AS travers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xt_hop (IP address of boarder rout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_Exit_Disc (Info about routers internal to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cal_pref (Inform other routers within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omic_Aggregate, Aggregator (Uses address tree structure to reduce amount of info need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1T09:45:56Z</dcterms:created>
  <dc:creator>Adrian &amp; Wendy</dc:creator>
  <dc:description/>
  <dc:language>en-US</dc:language>
  <cp:lastModifiedBy>Adrian &amp; Wendy</cp:lastModifiedBy>
  <dcterms:modified xsi:type="dcterms:W3CDTF">1999-11-02T08:52:14Z</dcterms:modified>
  <cp:revision>49</cp:revision>
  <dc:subject/>
  <dc:title>William Stallings Data and Computer Communications</dc:title>
</cp:coreProperties>
</file>